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E1FA-8FAD-4016-83CF-8B32BB3A6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5CF6-0E76-4653-A99A-3C883C4D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AF06-D4DA-4947-B5F2-01DDB2FB2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B5D8-B1A1-4E8F-89B1-D3B31E3DD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AA3F-E7F7-49ED-8070-AA6060CAC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8852-5DE4-45FA-AE97-B6FD675A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83FE-F981-43A6-8FB4-49BA3B44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8B71-227A-444C-B9EB-863CA4D1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0825-16F8-4CAC-8EAE-64854273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F96F-0594-4E5F-ADB3-96A2DB52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178A5-DC75-4536-B588-C22B3966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EB2D-D3E9-439E-ABC4-911D6C40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8206-9CE7-41BB-ACEE-3D60467D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1DCA-421D-43C6-B1A2-0DA5A1BC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01C0-A6F2-4AFD-94D9-80A1A880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40C2-557B-448C-A4BE-18AA82C7F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BCE5-AB6E-4424-A720-5D4342FDD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AFB0-9BD1-4B8C-8CE2-68406BD4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E34E-BD2D-4ECE-B399-31263ACA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5118-146F-4D26-B5F8-C6D30860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3C92-D27A-4A1B-A807-FE442787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BA0A-2ECE-4C70-9CFF-C3F9FF57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4F7F-5239-4C81-B96A-1A5BC472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3B52-232A-42AC-9B91-F16347F0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515B-1EC7-431B-8726-954FC58D320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B86F-1712-4F70-9675-02C1ACADFA0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un time is English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pt. 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y sister wants to become and industrial engineer, shes gonna write to the institute of industrial engineers in norcross georgia for more inform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dent:Mammal::human:___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athetic:Emotion::________:bi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swer Ke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y sister wants to become and industrial engineer.  She’s going to write to the Institute of Industrial Engineers in Norcross, Georgia, for more inform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riting promp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agine you were shipwrecked on an island. What do you think you would need to survi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ost Dangerous Ga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g. 2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5:09:01Z</dcterms:created>
  <dc:creator>student</dc:creator>
  <dc:description/>
  <dc:language>en-US</dc:language>
  <cp:lastModifiedBy>student</cp:lastModifiedBy>
  <dcterms:modified xsi:type="dcterms:W3CDTF">2010-09-03T15:27:05Z</dcterms:modified>
  <cp:revision>2</cp:revision>
  <dc:subject/>
  <dc:title>Fun time is English</dc:title>
</cp:coreProperties>
</file>